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92900" cy="9569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042-4281-4933-926A-D8529760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ECE-2275-482C-B73A-D2D593A3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D13-6FAD-497D-8D11-47F3C3D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32F-20D9-41E4-BCC4-1EB03256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E13-8F6F-4D97-8258-8884286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06A-8B4F-46A1-945A-8411F02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B5D-BB05-4142-AACD-68D16E35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C30-9039-4A93-A9EA-6ABA236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56F-90D3-4A9F-BD95-112D32D0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1D7-4C60-4564-A1E0-6723CD3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00B-20D2-4E2C-9B6F-1D4DC48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75B-FD1A-4631-8C28-64038F2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ED7-F4EE-4E59-B7AB-76E310162C8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BA3-60EE-4AD4-870C-5D51EDED3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3B5-62FE-460B-AE97-9809AD154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E10-7AB3-4EFA-8384-CD5E54F517F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The Full SCAM Logic [SCAM 1-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990720"/>
            <a:ext cx="1828800" cy="533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981080"/>
            <a:ext cx="182880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2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990720"/>
            <a:ext cx="2514600" cy="533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981080"/>
            <a:ext cx="251460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ci. Ins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981080"/>
            <a:ext cx="2895480" cy="533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R~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200400"/>
            <a:ext cx="251460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ce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200400"/>
            <a:ext cx="289584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um Matrix F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3809880"/>
            <a:ext cx="182880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952880"/>
            <a:ext cx="1828800" cy="5335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809880"/>
            <a:ext cx="251460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mmunity. In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952880"/>
            <a:ext cx="2514600" cy="5335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ity Ins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172200"/>
            <a:ext cx="1828800" cy="5335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6172200"/>
            <a:ext cx="2514600" cy="5335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 Ins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809880"/>
            <a:ext cx="2895840" cy="5335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Matrix F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952880"/>
            <a:ext cx="2895840" cy="5335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loo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6172200"/>
            <a:ext cx="2895840" cy="5335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T 36 #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96080" y="2209680"/>
            <a:ext cx="685800" cy="60984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4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4952880"/>
            <a:ext cx="685800" cy="60984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12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6095880"/>
            <a:ext cx="685800" cy="60984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04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914400"/>
            <a:ext cx="685800" cy="60948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1600200"/>
            <a:ext cx="685800" cy="60948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12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124080"/>
            <a:ext cx="685800" cy="60984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3733920"/>
            <a:ext cx="685800" cy="60948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4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" y="4419720"/>
            <a:ext cx="88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Monotype Sorts"/>
                <a:ea typeface="Monotype Sorts"/>
              </a:rPr>
              <a:t>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CAM becomes a General User Facility with a closed loop large FOV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0" y="5638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Monotype Sorts"/>
                <a:ea typeface="Monotype Sorts"/>
              </a:rPr>
              <a:t>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SCAM demonstrates improved resolving power ~ 20 @ low T on WH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" y="26668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Monotype Sorts"/>
                <a:ea typeface="Monotype Sorts"/>
              </a:rPr>
              <a:t>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The SCAM Program opens up the Field Of View to serious Astr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23880"/>
            <a:ext cx="754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Monotype Sorts"/>
                <a:ea typeface="Monotype Sorts"/>
              </a:rPr>
              <a:t>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SCAM 2 Program maximises Science inTa Devices (2 ru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9907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got to the Mountai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121-38FA-4E43-933F-F2EE79022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A1C-251E-4563-B66B-792FA7DC7BE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The SCAM Program @ WHT 99-01 (SCAM 1-4 : The demo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9480"/>
            <a:ext cx="838080" cy="6098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M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1523880" cy="5335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#Ta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24#Ta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828800"/>
            <a:ext cx="1523880" cy="5335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#Ta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828800"/>
            <a:ext cx="1523880" cy="5335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#Ta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828800"/>
            <a:ext cx="1523880" cy="5335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6#Ta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382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rad-1(He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rad-2(H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4382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rad-1(He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rad-1(H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4382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rad-2(H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48120"/>
            <a:ext cx="1523880" cy="533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6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4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3880" cy="533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6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048120"/>
            <a:ext cx="1523880" cy="533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6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048120"/>
            <a:ext cx="1523880" cy="533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0 w (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09480"/>
            <a:ext cx="838080" cy="6098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2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609480"/>
            <a:ext cx="838080" cy="6098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4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09480"/>
            <a:ext cx="838080" cy="6098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609480"/>
            <a:ext cx="838080" cy="6098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4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657600"/>
            <a:ext cx="152388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 E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D Elec(2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657600"/>
            <a:ext cx="152388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 Elec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152388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 Elec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3657600"/>
            <a:ext cx="152388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D Elec(1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267080"/>
            <a:ext cx="1523880" cy="533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te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267080"/>
            <a:ext cx="1523880" cy="533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te 5/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267080"/>
            <a:ext cx="1523880" cy="533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te 5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267080"/>
            <a:ext cx="1523880" cy="533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te 5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267080"/>
            <a:ext cx="1523880" cy="533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te 25/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76920"/>
            <a:ext cx="1523880" cy="5331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V 4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876920"/>
            <a:ext cx="1523880" cy="5331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V 32x3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876920"/>
            <a:ext cx="1523880" cy="5331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V 4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4876920"/>
            <a:ext cx="1523880" cy="5331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V 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76920"/>
            <a:ext cx="1523880" cy="5331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V 12x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324480"/>
            <a:ext cx="1828800" cy="533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ew DM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6324480"/>
            <a:ext cx="1828800" cy="533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ull 12x8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86400"/>
            <a:ext cx="1523880" cy="53352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232323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~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486400"/>
            <a:ext cx="1523880" cy="53352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232323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~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486400"/>
            <a:ext cx="1523880" cy="53352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232323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~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486400"/>
            <a:ext cx="1523880" cy="53352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232323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~10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5486400"/>
            <a:ext cx="1523880" cy="53352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232323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~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248520"/>
            <a:ext cx="152424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Matrix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32448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6248520"/>
            <a:ext cx="838440" cy="6094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6324480"/>
            <a:ext cx="1828800" cy="533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artix de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800000"/>
                </a:solidFill>
                <a:uFillTx/>
                <a:latin typeface="Times New Roman"/>
              </a:rPr>
              <a:t>Low Tc STJ Program (SCAM-6) [04/03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143000"/>
            <a:ext cx="3124080" cy="1143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ll Mfab STJ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143000"/>
            <a:ext cx="3124080" cy="11430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ogra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438280"/>
            <a:ext cx="3124080" cy="1143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Va-Al STJ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l is fall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733920"/>
            <a:ext cx="3124080" cy="1143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2438280"/>
            <a:ext cx="3124080" cy="11430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Lab Cryo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liox 1 &amp; Kelvin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733920"/>
            <a:ext cx="3124080" cy="11430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obile A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Munich procur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029200"/>
            <a:ext cx="3124080" cy="1143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o DM-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or SCAM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029200"/>
            <a:ext cx="3124080" cy="11430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vice Man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GB,JP,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560" y="4114800"/>
            <a:ext cx="2154240" cy="4597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o &amp; W STJ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243828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P(s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3886200"/>
            <a:ext cx="1981440" cy="1066680"/>
          </a:xfrm>
          <a:prstGeom prst="ellipse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P (s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D59-523F-4B39-AA54-E3B4D3758FE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A2E51-CB24-4EFF-B1E7-24B9F4736F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33cc"/>
                </a:solidFill>
                <a:uFillTx/>
                <a:latin typeface="Times New Roman"/>
              </a:rPr>
              <a:t>Overview -SCAM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8915400" cy="533520"/>
          </a:xfrm>
          <a:prstGeom prst="rect">
            <a:avLst/>
          </a:prstGeom>
          <a:gradFill rotWithShape="0">
            <a:gsLst>
              <a:gs pos="0">
                <a:srgbClr val="232323"/>
              </a:gs>
              <a:gs pos="50000">
                <a:srgbClr val="4d4d4d"/>
              </a:gs>
              <a:gs pos="100000">
                <a:srgbClr val="23232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2971800" cy="6094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99072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ycle  2000 TRP/GSTP (2000-2002)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[SCAM2(b), SCAM 3,SCAM 4 &amp; SCAM 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71800"/>
            <a:ext cx="838080" cy="307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(b)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59092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040" y="2743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SCAM 2(b) (W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886200"/>
            <a:ext cx="1371600" cy="368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. 2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371600"/>
            <a:ext cx="2971800" cy="6094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1371600"/>
            <a:ext cx="2971800" cy="6094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81080"/>
            <a:ext cx="2971800" cy="6098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1981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20968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057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62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83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4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1981080"/>
            <a:ext cx="2971800" cy="6098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419720" y="1981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576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057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8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0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9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981080"/>
            <a:ext cx="2971800" cy="6098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391520" y="19810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6294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15328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057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98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9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77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3886200" cy="3070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CAM 3 (96 Ta STJ’s) [20# baseline]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259092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27432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SCAM 3 (W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259092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274320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SCAM 4 (W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02640" y="259092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5600" y="274320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SCAM 5 (WHT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76720"/>
            <a:ext cx="838080" cy="307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-mag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191120"/>
            <a:ext cx="1523880" cy="5814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FG Array Proc.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495680"/>
            <a:ext cx="1295280" cy="368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fab Va test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191120"/>
            <a:ext cx="1219320" cy="368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ests Hel 2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1523880" cy="368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2+ 36# STJ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886200"/>
            <a:ext cx="533520" cy="368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T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276720"/>
            <a:ext cx="16765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2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2971800"/>
            <a:ext cx="4572000" cy="3070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CAM 4 (1024 Ta STJ’s) [64 #]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276720"/>
            <a:ext cx="17524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FG Array Proc.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581280"/>
            <a:ext cx="1676520" cy="5814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ray tests in Hel 2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T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3276720"/>
            <a:ext cx="609480" cy="3682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IV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886200"/>
            <a:ext cx="533520" cy="5814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IV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800600"/>
            <a:ext cx="601992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4 development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495680"/>
            <a:ext cx="7696080" cy="307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CAM 5 (1024 Ta STJ’s) [64 #] - Closed Cycle System  </a:t>
            </a: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(NR)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4800600"/>
            <a:ext cx="53352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T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4800600"/>
            <a:ext cx="60948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IV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5105520"/>
            <a:ext cx="121932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4 Tests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410080"/>
            <a:ext cx="8001000" cy="3070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CAM 6 (36 Mo STJ’s) [36 #]</a:t>
            </a:r>
            <a:r>
              <a:rPr b="1" lang="en-GB" sz="1400" spc="-1" strike="noStrike">
                <a:solidFill>
                  <a:srgbClr val="00ffcc"/>
                </a:solidFill>
                <a:latin typeface="Times New Roman"/>
              </a:rPr>
              <a:t>  </a:t>
            </a: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(N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5715000"/>
            <a:ext cx="1523880" cy="58140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FabAl STJ dev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6019920"/>
            <a:ext cx="297180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5 development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5715000"/>
            <a:ext cx="114300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ray Proc.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715000"/>
            <a:ext cx="129564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abADR Test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6019920"/>
            <a:ext cx="99072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o STJ  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5715000"/>
            <a:ext cx="99072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  in Kel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5715000"/>
            <a:ext cx="99072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o in Kel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6019920"/>
            <a:ext cx="137160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5 Tests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105520"/>
            <a:ext cx="152388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4 Design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5105520"/>
            <a:ext cx="2971800" cy="368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rad 4 Procurement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5715000"/>
            <a:ext cx="129528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ray  in Kel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91720" y="3124080"/>
            <a:ext cx="15228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7720" y="33526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SCAM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6019920"/>
            <a:ext cx="60948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IV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5715000"/>
            <a:ext cx="533520" cy="3682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T </a:t>
            </a:r>
            <a:r>
              <a:rPr b="1" lang="en-GB" sz="18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260-D150-4E24-A475-36E65E21942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0D10E-C6C7-43BF-8BA2-239CEE790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3:19:22Z</dcterms:created>
  <dc:creator>A. Peacock</dc:creator>
  <dc:description/>
  <dc:language>en-US</dc:language>
  <cp:lastModifiedBy>Peter Moore</cp:lastModifiedBy>
  <cp:lastPrinted>1999-11-15T13:02:39Z</cp:lastPrinted>
  <dcterms:modified xsi:type="dcterms:W3CDTF">2002-06-19T15:03:02Z</dcterms:modified>
  <cp:revision>94</cp:revision>
  <dc:subject/>
  <dc:title>LR&amp;D 1999 Review</dc:title>
</cp:coreProperties>
</file>